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8E2B-9B44-4418-85FA-29EA880A5A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е начинается путь к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нее начинается путь к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сахар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ирува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сахари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ре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ирува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Л Ю К О З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 – анаэроб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,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винные дрож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окис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р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 Л Ю К О З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 В 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 – анаэробное дых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вотные, бакте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винные дрожж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этапа энергетического об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этапа энергетического об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Аэробный этап - кислор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-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. Аэробный этап - кислород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-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 и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 молекул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б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2 и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6 молекул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эроб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эробный (кислородный)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Аэробный (кислородный)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б энергетическом об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, его строение и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энергетического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об энергетическом обме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, его строение и знач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ы энергетического обме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це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но-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-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ино-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х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ил-Ко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в циф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жизни – несколько секу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адо расщепить 166 кг АТ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→ АДФ →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в циф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жизни – несколько секу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адо расщепить 166 кг АТФ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→ АДФ →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б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або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рг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роэргические связ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ист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й сахар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б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та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ен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+ Н2О             АДФ + 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+ Н2О             АДФ + 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сомы в кле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. Подготовитель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3EC-2CCF-4A6E-8E9F-70E32F54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FBA-C881-42D3-A93F-2C16651A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601-CD6C-419C-869E-5AEA8CA7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79A-0A9A-43DC-8627-C544DADA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7F4A-7A59-4299-9098-9B9CDF95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BBB-DD5F-4EA0-A219-46FEB594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243E-DF77-4499-99F3-E42B63B2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383A-BBFF-41C0-BE8F-F46850AB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BD65-5C04-49DD-813A-56E9CAAC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2A35-431E-42C1-9D6F-8D516488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F71E-30CB-4906-8A3B-463C1C73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8D4-5A78-4578-92C5-AF7979B1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2C50-8DCD-44C5-9CDD-8BBFDED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1A34-3817-417D-A748-B5DDD37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A5C3-F126-481B-B87E-3C4A4D43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0E2C-B8AF-4992-8044-534E6787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1659-CFF1-4574-8AC0-C1F928C9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A89F-299E-46D2-B0EB-F86B95C3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1EA48-0B78-41A1-BC0C-9D280923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DD00-A3B6-4F10-A59A-BCA50A75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4076-4571-40A5-BFA4-CE45551F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C454-46E7-4B8E-A4E6-D36D0A85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F11-6E02-4925-9356-AB8273AF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0D2CE-A9F9-4E8B-A6F3-5052C80A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898C-091E-42F7-BCCA-D5BC64AD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15C8-F2FD-43A1-A72B-A45AA36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4912-F44D-4B91-91D0-8520A9C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F74C-A80D-413B-816A-18E61255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18EA-80F9-4E27-AA7F-A97AD972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9071-EFCF-45F9-A658-E2CECD4F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3D0C-A3DB-465A-9059-916DD256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F628-5F6C-458D-9A18-98BBA82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65C1-9085-445F-98C3-B1653D97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2BA-0B43-4271-9DDD-746113C0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9595-2A62-473D-9296-171DB018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1CCA-C59A-40D7-9D4F-4F245C24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A06FB-C290-4ADC-A148-F4FA70DE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5F535-8B36-41BA-B918-6B23E3B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7A21-CFC2-4D27-A931-12C85A76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515A8-188A-42A4-9B10-34CAAC9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A8D1-D454-44CC-A967-431832FE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AB2BC-A29A-49B8-8277-8DC21AD1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DA6F-2531-48F7-A4D6-23A90D13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4539-AD21-47CC-AB91-71DBD72E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C49-EEBD-4619-87E1-4AC32E8B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69E0-07E5-4D96-B66F-8DD213E9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9950E-1999-43DD-BD5B-4A8D071C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03A90-B2ED-4363-9E2F-4428C45F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52B24-310B-4BF1-B2C7-E347E5AC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B5F79-309C-4547-8482-7FFBD26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33110-4A20-4E7C-83E8-77097BAE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C526A-ADA0-476F-BA19-4788F23B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73E09-3860-494C-A706-7209F2F8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B940-C08B-4823-8398-53E0DF59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542E5-6ED5-4A17-ADF0-824AC2D8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560-68D0-484E-A865-DDE77C38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FF0A6-979D-4B1A-ACC8-AA5EDC6C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0DF8-C902-4B9B-A157-C29DE676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6B7D9-3562-49BF-B9AA-819B5AA8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9B6AA-6B03-40AE-938A-297277CD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96029-78B5-46CF-93FC-A3F01DB0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63724-E4F9-4788-9EE6-D5E54CCF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7490D-95BA-4C52-91EB-C3B6DF7A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37DE0-9439-4677-81D8-186B3F9B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59F1F-3954-412B-9BA4-336AB71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63472-5E99-4CD1-A79F-326299B5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E63-01C8-46E8-8012-89136C9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9AD18-A737-495A-AA52-5BDBEA92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7B33-3B89-4C8D-8671-6DC25720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96B5-A923-445B-805F-6B621107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90148-A538-434C-A6C0-EAB46112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DDFC-8C2D-45F9-A6C6-C1A42ED0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35BD6-1BBF-4168-AB56-01A3FE99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FC311-F1E7-4FB7-83E9-3DB72787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55118-A1A6-4451-B595-B347E2F3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71484-50F8-47C6-BF0F-6B0FDC2F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905B5-3FAF-413E-AAB7-E488B4F4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21F-1A3E-40AE-B41F-06D28F6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52E03-CB5B-4A38-87F8-4865BD9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7EF03-28BF-4380-94FE-FCE73BA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EC18B-130C-41E7-ADAD-5941689E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B4E9C-83C8-4DBB-996D-ABE72A03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1EB69-C683-4380-8764-424D655D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18F-4738-4FC1-8CC1-D6CF39B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2CB7-568E-4598-9CAB-6CE66203FF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056F-670C-481B-B724-7D05AE1137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EC48-9B10-4762-BD03-903736E0CD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5962-710B-4724-BF59-7F0CDA764D1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3EA0-5172-4EB1-BC2C-CED7EE0A99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5A89-0630-47FC-A1E6-9A8DC1CDFAB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964-DE46-41B4-BAA1-F07EF08F62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2bfe"/>
                </a:solidFill>
                <a:latin typeface="Arial"/>
              </a:rPr>
              <a:t>Конкурс по биологии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Тема: «Энергетический обмен в клетке»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7760" y="512244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69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800"/>
                </a:solidFill>
                <a:latin typeface="Verdana"/>
              </a:rPr>
              <a:t>Глюкоз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центральная молекула клеточн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1979640" y="1773360"/>
          <a:ext cx="44654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4654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2560" y="56674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 нее начинается путь к 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589800" y="1916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973080" y="3068640"/>
            <a:ext cx="6767640" cy="316692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4800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24000" y="105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сахар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3851280" y="1628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869080" y="41338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324000" y="1461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a8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.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Анаэробный гликолиз</a:t>
            </a:r>
            <a:r>
              <a:rPr b="1" lang="ru-RU" sz="3200" spc="-1" strike="noStrike">
                <a:solidFill>
                  <a:srgbClr val="00a8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– бескислородн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725480" y="4973040"/>
            <a:ext cx="1670400" cy="889560"/>
            <a:chOff x="1725480" y="4973040"/>
            <a:chExt cx="1670400" cy="889560"/>
          </a:xfrm>
        </p:grpSpPr>
        <p:sp>
          <p:nvSpPr>
            <p:cNvPr id="392" name="Oval 9"/>
            <p:cNvSpPr/>
            <p:nvPr/>
          </p:nvSpPr>
          <p:spPr>
            <a:xfrm rot="498600">
              <a:off x="1765080" y="5084280"/>
              <a:ext cx="1590480" cy="66672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rot="498600">
              <a:off x="1922400" y="5142600"/>
              <a:ext cx="1353240" cy="53820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378144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6ff"/>
                </a:solidFill>
                <a:latin typeface="Verdana"/>
              </a:rPr>
              <a:t>к л е т к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421080" y="3330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586908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ирув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492360" y="393372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229 0.30439 E">
                                      <p:cBhvr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42640" y="2438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ccff"/>
                </a:solidFill>
                <a:latin typeface="Verdana"/>
              </a:rPr>
              <a:t>ПВК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 – пировиноградная  кислота С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Н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4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C:\Users\HOME\Desktop\tmp3E1-5.jpg"/>
          <p:cNvPicPr/>
          <p:nvPr/>
        </p:nvPicPr>
        <p:blipFill>
          <a:blip r:embed="rId1"/>
          <a:stretch/>
        </p:blipFill>
        <p:spPr>
          <a:xfrm>
            <a:off x="1905120" y="4224240"/>
            <a:ext cx="511812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484360" y="981000"/>
            <a:ext cx="367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Г Л Ю К О З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745080" y="1987560"/>
            <a:ext cx="1008000" cy="722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529080" y="270828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П В 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113440" y="19890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2 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753080" y="2349360"/>
            <a:ext cx="57600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3036800">
            <a:off x="3420720" y="349992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39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 rot="8816400">
            <a:off x="4500720" y="350028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81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188640"/>
            <a:ext cx="8883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Бр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анаэробное дых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5257800" y="2590920"/>
            <a:ext cx="37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мало кислорода или организм – принципиальный анаэр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39640" y="4363920"/>
            <a:ext cx="3600720" cy="6336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Молоч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861080" y="4365720"/>
            <a:ext cx="3166920" cy="6318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Этиловый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52360" y="5661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Животные,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500720" y="55879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Растения, винные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921600" y="5119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лочнокис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671800" y="5119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ирто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847440" y="34275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875160" y="20606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ИКОЛ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755640" y="1700280"/>
          <a:ext cx="173844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1738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4629240" y="1528920"/>
            <a:ext cx="7668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V="1">
            <a:off x="2771640" y="2204640"/>
            <a:ext cx="1295640" cy="79236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2700360" y="3645000"/>
            <a:ext cx="1224000" cy="86364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755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ПВ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6019920" y="2819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молочная 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867280" y="587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этиловый спи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4140360" y="2924280"/>
            <a:ext cx="2160360" cy="3213000"/>
            <a:chOff x="4140360" y="2924280"/>
            <a:chExt cx="2160360" cy="3213000"/>
          </a:xfrm>
        </p:grpSpPr>
        <p:grpSp>
          <p:nvGrpSpPr>
            <p:cNvPr id="429" name="Group 10"/>
            <p:cNvGrpSpPr/>
            <p:nvPr/>
          </p:nvGrpSpPr>
          <p:grpSpPr>
            <a:xfrm>
              <a:off x="4140360" y="2924280"/>
              <a:ext cx="2160360" cy="3213000"/>
              <a:chOff x="4140360" y="2924280"/>
              <a:chExt cx="2160360" cy="3213000"/>
            </a:xfrm>
          </p:grpSpPr>
          <p:sp>
            <p:nvSpPr>
              <p:cNvPr id="430" name="Text Box 11"/>
              <p:cNvSpPr/>
              <p:nvPr/>
            </p:nvSpPr>
            <p:spPr>
              <a:xfrm>
                <a:off x="5724720" y="4272120"/>
                <a:ext cx="576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31" name="Object 12"/>
              <p:cNvGraphicFramePr/>
              <p:nvPr/>
            </p:nvGraphicFramePr>
            <p:xfrm>
              <a:off x="4141800" y="2968560"/>
              <a:ext cx="1736640" cy="316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2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1800" y="2968560"/>
                        <a:ext cx="173664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33" name="Group 13"/>
              <p:cNvGrpSpPr/>
              <p:nvPr/>
            </p:nvGrpSpPr>
            <p:grpSpPr>
              <a:xfrm>
                <a:off x="4140360" y="2924280"/>
                <a:ext cx="1655640" cy="1584360"/>
                <a:chOff x="4140360" y="2924280"/>
                <a:chExt cx="1655640" cy="1584360"/>
              </a:xfrm>
            </p:grpSpPr>
            <p:sp>
              <p:nvSpPr>
                <p:cNvPr id="434" name="Rectangle 14"/>
                <p:cNvSpPr/>
                <p:nvPr/>
              </p:nvSpPr>
              <p:spPr>
                <a:xfrm>
                  <a:off x="5003640" y="4292640"/>
                  <a:ext cx="4316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140360" y="2924280"/>
                  <a:ext cx="1655640" cy="144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16"/>
            <p:cNvSpPr/>
            <p:nvPr/>
          </p:nvSpPr>
          <p:spPr>
            <a:xfrm>
              <a:off x="4570560" y="4221000"/>
              <a:ext cx="4334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17"/>
          <p:cNvSpPr/>
          <p:nvPr/>
        </p:nvSpPr>
        <p:spPr>
          <a:xfrm>
            <a:off x="661680" y="33336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Бр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8" descr=""/>
          <p:cNvPicPr/>
          <p:nvPr/>
        </p:nvPicPr>
        <p:blipFill>
          <a:blip r:embed="rId5"/>
          <a:stretch/>
        </p:blipFill>
        <p:spPr>
          <a:xfrm>
            <a:off x="6948360" y="333360"/>
            <a:ext cx="1881360" cy="2303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tretch/>
        </p:blipFill>
        <p:spPr>
          <a:xfrm>
            <a:off x="6948360" y="4149720"/>
            <a:ext cx="1729080" cy="152568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0"/>
          <p:cNvGrpSpPr/>
          <p:nvPr/>
        </p:nvGrpSpPr>
        <p:grpSpPr>
          <a:xfrm>
            <a:off x="4211640" y="404640"/>
            <a:ext cx="2088720" cy="3097440"/>
            <a:chOff x="4211640" y="404640"/>
            <a:chExt cx="2088720" cy="3097440"/>
          </a:xfrm>
        </p:grpSpPr>
        <p:grpSp>
          <p:nvGrpSpPr>
            <p:cNvPr id="441" name="Group 21"/>
            <p:cNvGrpSpPr/>
            <p:nvPr/>
          </p:nvGrpSpPr>
          <p:grpSpPr>
            <a:xfrm>
              <a:off x="4211640" y="404640"/>
              <a:ext cx="2088720" cy="3097440"/>
              <a:chOff x="4211640" y="404640"/>
              <a:chExt cx="2088720" cy="309744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743440" y="1676880"/>
                <a:ext cx="5569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43" name="Object 23"/>
              <p:cNvGraphicFramePr/>
              <p:nvPr/>
            </p:nvGraphicFramePr>
            <p:xfrm>
              <a:off x="4211640" y="404640"/>
              <a:ext cx="1680480" cy="309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4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1640" y="404640"/>
                        <a:ext cx="1680480" cy="309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5" name="Rectangle 24"/>
              <p:cNvSpPr/>
              <p:nvPr/>
            </p:nvSpPr>
            <p:spPr>
              <a:xfrm>
                <a:off x="4629240" y="1672200"/>
                <a:ext cx="76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6" name="Text Box 25"/>
            <p:cNvSpPr/>
            <p:nvPr/>
          </p:nvSpPr>
          <p:spPr>
            <a:xfrm>
              <a:off x="4572000" y="1635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7" name="Picture 26" descr="C:\Users\HOME\Desktop\0007-007-Brozhenie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cc"/>
                </a:solidFill>
                <a:latin typeface="Arial"/>
              </a:rPr>
              <a:t>Три этапа энергетического обмен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2. Анаэробный (бескислородный)  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н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+ 2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Р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ДФ      2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ТФ + 2 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6172200" y="449568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2"/>
          <p:cNvSpPr/>
          <p:nvPr/>
        </p:nvSpPr>
        <p:spPr>
          <a:xfrm>
            <a:off x="826920" y="1844640"/>
            <a:ext cx="7705800" cy="468144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533520" y="260280"/>
            <a:ext cx="72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. Аэробный этап - кисло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820520" y="3508920"/>
            <a:ext cx="4985280" cy="3021480"/>
            <a:chOff x="1820520" y="3508920"/>
            <a:chExt cx="4985280" cy="3021480"/>
          </a:xfrm>
        </p:grpSpPr>
        <p:sp>
          <p:nvSpPr>
            <p:cNvPr id="456" name="Oval 5"/>
            <p:cNvSpPr/>
            <p:nvPr/>
          </p:nvSpPr>
          <p:spPr>
            <a:xfrm rot="498600">
              <a:off x="1967040" y="3835440"/>
              <a:ext cx="4692240" cy="236808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498600">
              <a:off x="2432160" y="4038480"/>
              <a:ext cx="3992400" cy="191196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87640" y="4311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итохон-д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84720" y="2924280"/>
            <a:ext cx="1440000" cy="519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635280" y="270828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370836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Verdana"/>
              </a:rPr>
              <a:t>к л е т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84360" y="126828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5434E-006 L 0.08264 0.24555 E">
                                      <p:cBhvr>
                                        <p:cTn id="4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48555E-006 L -0.17309 0.25826 E">
                                      <p:cBhvr>
                                        <p:cTn id="5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36080" y="704880"/>
            <a:ext cx="8836560" cy="6314760"/>
            <a:chOff x="136080" y="704880"/>
            <a:chExt cx="8836560" cy="6314760"/>
          </a:xfrm>
        </p:grpSpPr>
        <p:sp>
          <p:nvSpPr>
            <p:cNvPr id="466" name="Oval 3"/>
            <p:cNvSpPr/>
            <p:nvPr/>
          </p:nvSpPr>
          <p:spPr>
            <a:xfrm rot="498600">
              <a:off x="468000" y="1267920"/>
              <a:ext cx="8172360" cy="5187960"/>
            </a:xfrm>
            <a:prstGeom prst="ellipse">
              <a:avLst/>
            </a:prstGeom>
            <a:solidFill>
              <a:srgbClr val="60e2c0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1332000" y="1685880"/>
              <a:ext cx="6872040" cy="4132440"/>
            </a:xfrm>
            <a:custGeom>
              <a:avLst/>
              <a:gdLst/>
              <a:ahLst/>
              <a:rect l="l" t="t" r="r" b="b"/>
              <a:pathLst>
                <a:path w="4329" h="2603">
                  <a:moveTo>
                    <a:pt x="314" y="456"/>
                  </a:moveTo>
                  <a:cubicBezTo>
                    <a:pt x="391" y="406"/>
                    <a:pt x="602" y="226"/>
                    <a:pt x="779" y="154"/>
                  </a:cubicBezTo>
                  <a:cubicBezTo>
                    <a:pt x="956" y="82"/>
                    <a:pt x="1133" y="49"/>
                    <a:pt x="1374" y="26"/>
                  </a:cubicBezTo>
                  <a:cubicBezTo>
                    <a:pt x="1615" y="3"/>
                    <a:pt x="2000" y="0"/>
                    <a:pt x="2224" y="17"/>
                  </a:cubicBezTo>
                  <a:cubicBezTo>
                    <a:pt x="2448" y="34"/>
                    <a:pt x="2552" y="78"/>
                    <a:pt x="2718" y="127"/>
                  </a:cubicBezTo>
                  <a:cubicBezTo>
                    <a:pt x="2884" y="176"/>
                    <a:pt x="3027" y="200"/>
                    <a:pt x="3220" y="309"/>
                  </a:cubicBezTo>
                  <a:cubicBezTo>
                    <a:pt x="3413" y="418"/>
                    <a:pt x="3802" y="642"/>
                    <a:pt x="3879" y="784"/>
                  </a:cubicBezTo>
                  <a:cubicBezTo>
                    <a:pt x="3956" y="926"/>
                    <a:pt x="3686" y="1044"/>
                    <a:pt x="3682" y="1160"/>
                  </a:cubicBezTo>
                  <a:cubicBezTo>
                    <a:pt x="3678" y="1276"/>
                    <a:pt x="3772" y="1462"/>
                    <a:pt x="3856" y="1480"/>
                  </a:cubicBezTo>
                  <a:cubicBezTo>
                    <a:pt x="3940" y="1498"/>
                    <a:pt x="4129" y="1201"/>
                    <a:pt x="4185" y="1270"/>
                  </a:cubicBezTo>
                  <a:cubicBezTo>
                    <a:pt x="4241" y="1339"/>
                    <a:pt x="4329" y="1693"/>
                    <a:pt x="4194" y="1892"/>
                  </a:cubicBezTo>
                  <a:cubicBezTo>
                    <a:pt x="4057" y="2090"/>
                    <a:pt x="3531" y="2424"/>
                    <a:pt x="3364" y="2464"/>
                  </a:cubicBezTo>
                  <a:cubicBezTo>
                    <a:pt x="3197" y="2504"/>
                    <a:pt x="3268" y="2186"/>
                    <a:pt x="3189" y="2130"/>
                  </a:cubicBezTo>
                  <a:cubicBezTo>
                    <a:pt x="3110" y="2074"/>
                    <a:pt x="2953" y="2062"/>
                    <a:pt x="2887" y="2130"/>
                  </a:cubicBezTo>
                  <a:cubicBezTo>
                    <a:pt x="2821" y="2198"/>
                    <a:pt x="2880" y="2478"/>
                    <a:pt x="2791" y="2540"/>
                  </a:cubicBezTo>
                  <a:cubicBezTo>
                    <a:pt x="2702" y="2602"/>
                    <a:pt x="2427" y="2603"/>
                    <a:pt x="2352" y="2504"/>
                  </a:cubicBezTo>
                  <a:cubicBezTo>
                    <a:pt x="2277" y="2405"/>
                    <a:pt x="2388" y="2057"/>
                    <a:pt x="2338" y="1947"/>
                  </a:cubicBezTo>
                  <a:cubicBezTo>
                    <a:pt x="2288" y="1837"/>
                    <a:pt x="2134" y="1765"/>
                    <a:pt x="2051" y="1844"/>
                  </a:cubicBezTo>
                  <a:cubicBezTo>
                    <a:pt x="1968" y="1923"/>
                    <a:pt x="1951" y="2341"/>
                    <a:pt x="1840" y="2421"/>
                  </a:cubicBezTo>
                  <a:cubicBezTo>
                    <a:pt x="1729" y="2501"/>
                    <a:pt x="1458" y="2418"/>
                    <a:pt x="1383" y="2321"/>
                  </a:cubicBezTo>
                  <a:cubicBezTo>
                    <a:pt x="1308" y="2224"/>
                    <a:pt x="1427" y="1937"/>
                    <a:pt x="1392" y="1836"/>
                  </a:cubicBezTo>
                  <a:cubicBezTo>
                    <a:pt x="1357" y="1735"/>
                    <a:pt x="1266" y="1663"/>
                    <a:pt x="1172" y="1717"/>
                  </a:cubicBezTo>
                  <a:cubicBezTo>
                    <a:pt x="1078" y="1771"/>
                    <a:pt x="980" y="2145"/>
                    <a:pt x="828" y="2159"/>
                  </a:cubicBezTo>
                  <a:cubicBezTo>
                    <a:pt x="676" y="2173"/>
                    <a:pt x="388" y="1915"/>
                    <a:pt x="258" y="1800"/>
                  </a:cubicBezTo>
                  <a:cubicBezTo>
                    <a:pt x="127" y="1684"/>
                    <a:pt x="0" y="1531"/>
                    <a:pt x="42" y="1458"/>
                  </a:cubicBezTo>
                  <a:cubicBezTo>
                    <a:pt x="84" y="1385"/>
                    <a:pt x="435" y="1433"/>
                    <a:pt x="510" y="1362"/>
                  </a:cubicBezTo>
                  <a:cubicBezTo>
                    <a:pt x="585" y="1291"/>
                    <a:pt x="563" y="1097"/>
                    <a:pt x="492" y="1032"/>
                  </a:cubicBezTo>
                  <a:cubicBezTo>
                    <a:pt x="421" y="967"/>
                    <a:pt x="109" y="1070"/>
                    <a:pt x="84" y="970"/>
                  </a:cubicBezTo>
                  <a:cubicBezTo>
                    <a:pt x="59" y="870"/>
                    <a:pt x="287" y="544"/>
                    <a:pt x="342" y="432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492360" y="5805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Митохонд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95280" y="1125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3203640" y="2743200"/>
            <a:ext cx="911160" cy="38160"/>
          </a:xfrm>
          <a:prstGeom prst="line">
            <a:avLst/>
          </a:prstGeom>
          <a:ln w="76320">
            <a:solidFill>
              <a:srgbClr val="808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3124080" y="1905120"/>
            <a:ext cx="30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5364000" y="3429000"/>
            <a:ext cx="2376720" cy="1512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6 молекул АТ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258920" y="18900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Аэроб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14983 0.20347 E">
                                      <p:cBhvr>
                                        <p:cTn id="65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648 L 0.05521 0.06736 E">
                                      <p:cBhvr>
                                        <p:cTn id="80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7 L -0.24791 0.12069 E">
                                      <p:cBhvr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t-RU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3. Аэробный (кислородный)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+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6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36 АДФ + 36 Ф </a:t>
            </a: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—&gt;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6С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6 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 + </a:t>
            </a:r>
            <a:r>
              <a:rPr b="1" lang="ru-RU" sz="2900" spc="-1" strike="noStrike">
                <a:solidFill>
                  <a:srgbClr val="ffccff"/>
                </a:solidFill>
                <a:latin typeface="Verdana"/>
              </a:rPr>
              <a:t>36 АТФ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1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Narrow"/>
              </a:rPr>
              <a:t>Обмен веществ и его роль в клетке. Энергетический обмен. Синтез АТФ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ла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онятие об энергетическом обмен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АТФ, его строение и значени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Этапы энергетического обмена</a:t>
            </a:r>
            <a:r>
              <a:rPr b="0" lang="ru-RU" sz="3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24000" y="549360"/>
            <a:ext cx="1944360" cy="7095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659640" y="641520"/>
            <a:ext cx="1944720" cy="61740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Бе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421080" y="641520"/>
            <a:ext cx="2303280" cy="61740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4427640" y="1330200"/>
            <a:ext cx="360360" cy="586080"/>
          </a:xfrm>
          <a:prstGeom prst="downArrow">
            <a:avLst>
              <a:gd name="adj1" fmla="val 50000"/>
              <a:gd name="adj2" fmla="val 4065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427640" y="2409840"/>
            <a:ext cx="360360" cy="952560"/>
          </a:xfrm>
          <a:prstGeom prst="downArrow">
            <a:avLst>
              <a:gd name="adj1" fmla="val 50000"/>
              <a:gd name="adj2" fmla="val 66084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427640" y="3562200"/>
            <a:ext cx="360360" cy="617760"/>
          </a:xfrm>
          <a:prstGeom prst="downArrow">
            <a:avLst>
              <a:gd name="adj1" fmla="val 50000"/>
              <a:gd name="adj2" fmla="val 4285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740040" y="5979960"/>
            <a:ext cx="1695600" cy="617760"/>
          </a:xfrm>
          <a:prstGeom prst="rect">
            <a:avLst/>
          </a:prstGeom>
          <a:gradFill rotWithShape="0">
            <a:gsLst>
              <a:gs pos="0">
                <a:srgbClr val="c6c6c6"/>
              </a:gs>
              <a:gs pos="50000">
                <a:srgbClr val="dddddd"/>
              </a:gs>
              <a:gs pos="100000">
                <a:srgbClr val="c6c6c6"/>
              </a:gs>
            </a:gsLst>
            <a:lin ang="5400000"/>
          </a:gra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Verdana"/>
                <a:ea typeface="Tahoma"/>
              </a:rPr>
              <a:t>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4427640" y="5516640"/>
            <a:ext cx="360360" cy="39060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11"/>
          <p:cNvSpPr/>
          <p:nvPr/>
        </p:nvSpPr>
        <p:spPr>
          <a:xfrm>
            <a:off x="1476360" y="1268280"/>
            <a:ext cx="3024360" cy="1440000"/>
          </a:xfrm>
          <a:custGeom>
            <a:avLst/>
            <a:gdLst/>
            <a:ahLst/>
            <a:rect l="l" t="t" r="r" b="b"/>
            <a:pathLst>
              <a:path w="1905" h="907">
                <a:moveTo>
                  <a:pt x="0" y="0"/>
                </a:moveTo>
                <a:cubicBezTo>
                  <a:pt x="10" y="65"/>
                  <a:pt x="6" y="264"/>
                  <a:pt x="57" y="390"/>
                </a:cubicBezTo>
                <a:cubicBezTo>
                  <a:pt x="108" y="516"/>
                  <a:pt x="124" y="676"/>
                  <a:pt x="304" y="755"/>
                </a:cubicBezTo>
                <a:cubicBezTo>
                  <a:pt x="484" y="834"/>
                  <a:pt x="869" y="840"/>
                  <a:pt x="1136" y="865"/>
                </a:cubicBezTo>
                <a:cubicBezTo>
                  <a:pt x="1403" y="890"/>
                  <a:pt x="1745" y="898"/>
                  <a:pt x="1905" y="907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68360" y="1700280"/>
            <a:ext cx="2154240" cy="63828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13"/>
          <p:cNvSpPr/>
          <p:nvPr/>
        </p:nvSpPr>
        <p:spPr>
          <a:xfrm>
            <a:off x="539640" y="1268280"/>
            <a:ext cx="2871720" cy="2094120"/>
          </a:xfrm>
          <a:custGeom>
            <a:avLst/>
            <a:gdLst/>
            <a:ahLst/>
            <a:rect l="l" t="t" r="r" b="b"/>
            <a:pathLst>
              <a:path w="1809" h="1319">
                <a:moveTo>
                  <a:pt x="0" y="0"/>
                </a:moveTo>
                <a:cubicBezTo>
                  <a:pt x="39" y="146"/>
                  <a:pt x="142" y="670"/>
                  <a:pt x="236" y="874"/>
                </a:cubicBezTo>
                <a:cubicBezTo>
                  <a:pt x="330" y="1078"/>
                  <a:pt x="425" y="1150"/>
                  <a:pt x="565" y="1222"/>
                </a:cubicBezTo>
                <a:cubicBezTo>
                  <a:pt x="705" y="1294"/>
                  <a:pt x="870" y="1289"/>
                  <a:pt x="1077" y="1304"/>
                </a:cubicBezTo>
                <a:cubicBezTo>
                  <a:pt x="1284" y="1319"/>
                  <a:pt x="1657" y="1311"/>
                  <a:pt x="1809" y="1313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468360" y="2779560"/>
            <a:ext cx="1800000" cy="11541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>
            <a:off x="5994360" y="1268280"/>
            <a:ext cx="1496880" cy="1968480"/>
          </a:xfrm>
          <a:custGeom>
            <a:avLst/>
            <a:gdLst/>
            <a:ahLst/>
            <a:rect l="l" t="t" r="r" b="b"/>
            <a:pathLst>
              <a:path w="943" h="1240">
                <a:moveTo>
                  <a:pt x="919" y="0"/>
                </a:moveTo>
                <a:cubicBezTo>
                  <a:pt x="920" y="74"/>
                  <a:pt x="928" y="301"/>
                  <a:pt x="923" y="444"/>
                </a:cubicBezTo>
                <a:cubicBezTo>
                  <a:pt x="918" y="587"/>
                  <a:pt x="943" y="745"/>
                  <a:pt x="887" y="856"/>
                </a:cubicBezTo>
                <a:cubicBezTo>
                  <a:pt x="831" y="967"/>
                  <a:pt x="733" y="1048"/>
                  <a:pt x="585" y="1112"/>
                </a:cubicBezTo>
                <a:cubicBezTo>
                  <a:pt x="437" y="1176"/>
                  <a:pt x="122" y="1213"/>
                  <a:pt x="0" y="1240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5283360" y="2849400"/>
            <a:ext cx="2307960" cy="1795680"/>
          </a:xfrm>
          <a:custGeom>
            <a:avLst/>
            <a:gdLst/>
            <a:ahLst/>
            <a:rect l="l" t="t" r="r" b="b"/>
            <a:pathLst>
              <a:path w="1454" h="1131">
                <a:moveTo>
                  <a:pt x="1454" y="34"/>
                </a:moveTo>
                <a:cubicBezTo>
                  <a:pt x="1439" y="39"/>
                  <a:pt x="1379" y="0"/>
                  <a:pt x="1362" y="61"/>
                </a:cubicBezTo>
                <a:cubicBezTo>
                  <a:pt x="1345" y="122"/>
                  <a:pt x="1367" y="282"/>
                  <a:pt x="1353" y="399"/>
                </a:cubicBezTo>
                <a:cubicBezTo>
                  <a:pt x="1339" y="516"/>
                  <a:pt x="1344" y="667"/>
                  <a:pt x="1280" y="765"/>
                </a:cubicBezTo>
                <a:cubicBezTo>
                  <a:pt x="1216" y="863"/>
                  <a:pt x="1182" y="923"/>
                  <a:pt x="969" y="984"/>
                </a:cubicBezTo>
                <a:cubicBezTo>
                  <a:pt x="756" y="1045"/>
                  <a:pt x="202" y="1101"/>
                  <a:pt x="0" y="1131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6804000" y="2205000"/>
            <a:ext cx="2016000" cy="129528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мино-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8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484360" cy="2238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9"/>
          <p:cNvSpPr/>
          <p:nvPr/>
        </p:nvSpPr>
        <p:spPr>
          <a:xfrm>
            <a:off x="3421080" y="1720800"/>
            <a:ext cx="230328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348000" y="3027240"/>
            <a:ext cx="259092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цетил-Ко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2317680" cy="2349360"/>
          </a:xfrm>
          <a:prstGeom prst="rect">
            <a:avLst/>
          </a:prstGeom>
          <a:ln w="0">
            <a:noFill/>
          </a:ln>
        </p:spPr>
      </p:pic>
      <p:sp>
        <p:nvSpPr>
          <p:cNvPr id="500" name="Line 22"/>
          <p:cNvSpPr/>
          <p:nvPr/>
        </p:nvSpPr>
        <p:spPr>
          <a:xfrm flipH="1">
            <a:off x="4787640" y="2708280"/>
            <a:ext cx="2089080" cy="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1159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Ф в циф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7280" y="90972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– несколько секу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затрачива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300 ккал энергии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адо расщепить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66 к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амом деле в организме содержится только ~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50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каждая молекула АТФ должна вновь синтезироваться 166 кг : 50 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3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2484360" y="59500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Т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cc"/>
                </a:solidFill>
                <a:latin typeface="Garamond"/>
              </a:rPr>
              <a:t>По способу питания организмы делятся н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Авт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, питающиеся за счет не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Гетер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 питающиеся за счет 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8f8f8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сщепление в клетке 1 молекулы глюкозы до оксида углерода (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IV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лучение энергии живыми существам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3" name="Picture 4" descr="C:\Users\HOME\Desktop\0004-004-Sposoby-poluchenija-energii-zhivymi-suschestvami.jpg"/>
          <p:cNvPicPr/>
          <p:nvPr/>
        </p:nvPicPr>
        <p:blipFill>
          <a:blip r:embed="rId1"/>
          <a:stretch/>
        </p:blipFill>
        <p:spPr>
          <a:xfrm>
            <a:off x="762120" y="914400"/>
            <a:ext cx="7157880" cy="536904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   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Метаболиз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6" name="Picture 2" descr="C:\Users\HOME\Desktop\0003-003-Metabolizm.jpg"/>
          <p:cNvPicPr/>
          <p:nvPr/>
        </p:nvPicPr>
        <p:blipFill>
          <a:blip r:embed="rId1"/>
          <a:stretch/>
        </p:blipFill>
        <p:spPr>
          <a:xfrm>
            <a:off x="990720" y="914400"/>
            <a:ext cx="7059600" cy="529416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C:\Users\HOME\Desktop\Новая папка (3)\0007-007-Sravnitelnaja-tablitsa.jpg"/>
          <p:cNvPicPr/>
          <p:nvPr/>
        </p:nvPicPr>
        <p:blipFill>
          <a:blip r:embed="rId1"/>
          <a:stretch/>
        </p:blipFill>
        <p:spPr>
          <a:xfrm>
            <a:off x="457200" y="15228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Энергетический обмен </a:t>
            </a:r>
            <a:r>
              <a:rPr b="1" i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(диссимиляция)</a:t>
            </a: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590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АТФ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– универсальный источник энергии в клет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684360" y="1557360"/>
            <a:ext cx="7812000" cy="4131720"/>
            <a:chOff x="684360" y="1557360"/>
            <a:chExt cx="7812000" cy="4131720"/>
          </a:xfrm>
        </p:grpSpPr>
        <p:grpSp>
          <p:nvGrpSpPr>
            <p:cNvPr id="332" name="Group 4"/>
            <p:cNvGrpSpPr/>
            <p:nvPr/>
          </p:nvGrpSpPr>
          <p:grpSpPr>
            <a:xfrm>
              <a:off x="684360" y="1557360"/>
              <a:ext cx="7812000" cy="3743280"/>
              <a:chOff x="684360" y="1557360"/>
              <a:chExt cx="7812000" cy="37432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/>
              <a:srcRect l="0" t="0" r="34894" b="53822"/>
              <a:stretch/>
            </p:blipFill>
            <p:spPr>
              <a:xfrm>
                <a:off x="684360" y="1557360"/>
                <a:ext cx="7812000" cy="37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6"/>
              <p:cNvSpPr/>
              <p:nvPr/>
            </p:nvSpPr>
            <p:spPr>
              <a:xfrm>
                <a:off x="6732720" y="3789360"/>
                <a:ext cx="1152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Text Box 7"/>
            <p:cNvSpPr/>
            <p:nvPr/>
          </p:nvSpPr>
          <p:spPr>
            <a:xfrm>
              <a:off x="5580000" y="162864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Аден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4932360" y="522936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Рибо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104292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Три фосфа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116000" y="4221000"/>
              <a:ext cx="27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468360" y="5229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Макроэргические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1547640" y="3429000"/>
            <a:ext cx="28764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2556000" y="3429000"/>
            <a:ext cx="28728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 flipV="1">
            <a:off x="1692360" y="3573000"/>
            <a:ext cx="576000" cy="158436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V="1">
            <a:off x="2268360" y="3500280"/>
            <a:ext cx="432000" cy="165744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 Narrow"/>
              </a:rPr>
              <a:t>Состав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276720" y="1219320"/>
            <a:ext cx="251460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209320" y="19810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5680" y="2362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715000" y="1981080"/>
            <a:ext cx="10666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28600" y="2971800"/>
            <a:ext cx="266688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д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200400" y="3429000"/>
            <a:ext cx="259092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6477120" y="2819520"/>
            <a:ext cx="243828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РО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 Narrow"/>
              </a:rPr>
              <a:t>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ТФ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ДФ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733920" y="25909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труктура АТФ. 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2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34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4800" y="259920"/>
            <a:ext cx="4957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15920"/>
            <a:ext cx="2181240" cy="30258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4"/>
          <p:cNvGrpSpPr/>
          <p:nvPr/>
        </p:nvGrpSpPr>
        <p:grpSpPr>
          <a:xfrm>
            <a:off x="250920" y="3433680"/>
            <a:ext cx="4032000" cy="3423960"/>
            <a:chOff x="250920" y="3433680"/>
            <a:chExt cx="4032000" cy="3423960"/>
          </a:xfrm>
        </p:grpSpPr>
        <p:pic>
          <p:nvPicPr>
            <p:cNvPr id="364" name="Picture 5" descr=""/>
            <p:cNvPicPr/>
            <p:nvPr/>
          </p:nvPicPr>
          <p:blipFill>
            <a:blip r:embed="rId2"/>
            <a:srcRect l="0" t="0" r="0" b="2571"/>
            <a:stretch/>
          </p:blipFill>
          <p:spPr>
            <a:xfrm>
              <a:off x="250920" y="3433680"/>
              <a:ext cx="403200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3"/>
            <a:stretch/>
          </p:blipFill>
          <p:spPr>
            <a:xfrm>
              <a:off x="1906200" y="4296960"/>
              <a:ext cx="21564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4"/>
            <a:stretch/>
          </p:blipFill>
          <p:spPr>
            <a:xfrm>
              <a:off x="3058920" y="5594040"/>
              <a:ext cx="286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5"/>
            <a:stretch/>
          </p:blipFill>
          <p:spPr>
            <a:xfrm>
              <a:off x="1547640" y="4802040"/>
              <a:ext cx="215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9" descr=""/>
            <p:cNvPicPr/>
            <p:nvPr/>
          </p:nvPicPr>
          <p:blipFill>
            <a:blip r:embed="rId6"/>
            <a:stretch/>
          </p:blipFill>
          <p:spPr>
            <a:xfrm>
              <a:off x="971280" y="4225680"/>
              <a:ext cx="21564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AutoShape 10"/>
          <p:cNvSpPr/>
          <p:nvPr/>
        </p:nvSpPr>
        <p:spPr>
          <a:xfrm rot="5400000">
            <a:off x="2159640" y="2959920"/>
            <a:ext cx="718920" cy="647640"/>
          </a:xfrm>
          <a:custGeom>
            <a:avLst/>
            <a:gdLst>
              <a:gd name="textAreaLeft" fmla="*/ 112320 w 718920"/>
              <a:gd name="textAreaRight" fmla="*/ 549000 w 718920"/>
              <a:gd name="textAreaTop" fmla="*/ 133200 h 647640"/>
              <a:gd name="textAreaBottom" fmla="*/ 514440 h 647640"/>
            </a:gdLst>
            <a:ahLst/>
            <a:rect l="textAreaLeft" t="textAreaTop" r="textAreaRight" b="textAreaBottom"/>
            <a:pathLst>
              <a:path w="21600" h="21600">
                <a:moveTo>
                  <a:pt x="12921" y="0"/>
                </a:moveTo>
                <a:lnTo>
                  <a:pt x="12921" y="4447"/>
                </a:lnTo>
                <a:lnTo>
                  <a:pt x="3375" y="4447"/>
                </a:lnTo>
                <a:lnTo>
                  <a:pt x="3375" y="17153"/>
                </a:lnTo>
                <a:lnTo>
                  <a:pt x="12921" y="17153"/>
                </a:lnTo>
                <a:lnTo>
                  <a:pt x="12921" y="21600"/>
                </a:lnTo>
                <a:lnTo>
                  <a:pt x="21600" y="10800"/>
                </a:lnTo>
                <a:lnTo>
                  <a:pt x="12921" y="0"/>
                </a:lnTo>
                <a:close/>
              </a:path>
              <a:path w="21600" h="21600">
                <a:moveTo>
                  <a:pt x="1350" y="4447"/>
                </a:moveTo>
                <a:lnTo>
                  <a:pt x="1350" y="17153"/>
                </a:lnTo>
                <a:lnTo>
                  <a:pt x="2700" y="17153"/>
                </a:lnTo>
                <a:lnTo>
                  <a:pt x="2700" y="4447"/>
                </a:lnTo>
                <a:lnTo>
                  <a:pt x="1350" y="4447"/>
                </a:lnTo>
                <a:close/>
              </a:path>
              <a:path w="21600" h="21600">
                <a:moveTo>
                  <a:pt x="0" y="4447"/>
                </a:moveTo>
                <a:lnTo>
                  <a:pt x="0" y="17153"/>
                </a:lnTo>
                <a:lnTo>
                  <a:pt x="675" y="17153"/>
                </a:lnTo>
                <a:lnTo>
                  <a:pt x="675" y="4447"/>
                </a:lnTo>
                <a:lnTo>
                  <a:pt x="0" y="4447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 flipH="1">
            <a:off x="2556000" y="260280"/>
            <a:ext cx="1079280" cy="6476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716360" y="17002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050920" y="2492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427640" y="3860640"/>
            <a:ext cx="471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076720" y="51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хема этапов энергетическ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Untitled-Scanned-01"/>
          <p:cNvPicPr/>
          <p:nvPr/>
        </p:nvPicPr>
        <p:blipFill>
          <a:blip r:embed="rId1"/>
          <a:stretch/>
        </p:blipFill>
        <p:spPr>
          <a:xfrm>
            <a:off x="1447920" y="1066680"/>
            <a:ext cx="6634080" cy="55533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яшина Н.Л.</dc:creator>
  <dc:description/>
  <dc:language>en-US</dc:language>
  <cp:lastModifiedBy>LEGION</cp:lastModifiedBy>
  <dcterms:modified xsi:type="dcterms:W3CDTF">2015-11-27T10:45:50Z</dcterms:modified>
  <cp:revision>182</cp:revision>
  <dc:subject>Цитология</dc:subject>
  <dc:title>Энергетический обм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